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7.jpeg" ContentType="image/jpeg"/>
  <Override PartName="/ppt/media/enyacaribbeanblue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940-F232-4C2E-9C63-5492026E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46E-A127-4D9B-93CA-CF6C30AD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184-89FE-4218-8EA9-5F817C03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60E-7B66-496F-972F-46722CB1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6A8-0481-43A0-8874-3CC41AAE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09B-0805-437D-A40B-2E55AD8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497-1E3F-4522-AAF7-D88DE5E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DAB-F875-4AED-8341-39DDA97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673-7526-428F-90BD-1C041B8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154-F591-45A7-8845-B3BA25D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632-64A9-4122-89B1-D61D88C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E1C-1708-4178-9EB0-B69DF746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DDE-FC4E-4823-8EC0-9C9838A0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caribbeanblu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a000a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457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570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4200"/>
            </a:gs>
            <a:gs pos="100000">
              <a:srgbClr val="ffd93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4344"/>
            </a:gs>
            <a:gs pos="100000">
              <a:srgbClr val="8bca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71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00"/>
            </a:gs>
            <a:gs pos="100000">
              <a:srgbClr val="4a84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aaee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e2a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03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95f7"/>
            </a:gs>
            <a:gs pos="100000">
              <a:srgbClr val="e2a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a8b0e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82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7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2e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7a7"/>
            </a:gs>
            <a:gs pos="100000">
              <a:srgbClr val="f3cfd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3f55"/>
            </a:gs>
            <a:gs pos="100000">
              <a:srgbClr val="a8b0e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cc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4a5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4f63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a000a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ab82"/>
            </a:gs>
            <a:gs pos="100000">
              <a:srgbClr val="a854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354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720" y="609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990033"/>
                </a:solidFill>
                <a:latin typeface="Monotype Corsiva"/>
              </a:rPr>
              <a:t>Geo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9900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003d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3:32:07Z</dcterms:created>
  <dc:creator>Elsa</dc:creator>
  <dc:description/>
  <dc:language>en-US</dc:language>
  <cp:lastModifiedBy>Elsa</cp:lastModifiedBy>
  <dcterms:modified xsi:type="dcterms:W3CDTF">2004-12-04T17:49:11Z</dcterms:modified>
  <cp:revision>4</cp:revision>
  <dc:subject/>
  <dc:title>Fantasy dream</dc:title>
</cp:coreProperties>
</file>